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22B8-61DD-4D31-8530-072178068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 G may be sequence in an enh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dapter GUI allows selection of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number of Q20 bp per G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48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Genome Sequencing</a:t>
            </a:r>
            <a:br>
              <a:rPr sz="5400"/>
            </a:br>
            <a:br>
              <a:rPr sz="5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mpact on Anno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0574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GMOD April 26-28, 2004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Kim C. Worley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3638" t="0" r="20000" b="0"/>
          <a:stretch/>
        </p:blipFill>
        <p:spPr>
          <a:xfrm>
            <a:off x="228600" y="2666880"/>
            <a:ext cx="17002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urple Sea Urchin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rongylocentrotus purpuratu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15% of reads have premature termination due to poly G sequenc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e complementary poly C sequence does not have the same effec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ese regions will have 1/2 x the average coverag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olymorphic - not inbred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e extent of this may be underestimated due to the premature termination abov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533520" y="685800"/>
            <a:ext cx="5562360" cy="5562720"/>
            <a:chOff x="533520" y="685800"/>
            <a:chExt cx="5562360" cy="5562720"/>
          </a:xfrm>
        </p:grpSpPr>
        <p:sp>
          <p:nvSpPr>
            <p:cNvPr id="70" name=""/>
            <p:cNvSpPr/>
            <p:nvPr/>
          </p:nvSpPr>
          <p:spPr>
            <a:xfrm flipV="1">
              <a:off x="761760" y="2514240"/>
              <a:ext cx="151920" cy="685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914040" y="1371240"/>
              <a:ext cx="228240" cy="106668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533520" y="3352320"/>
              <a:ext cx="228240" cy="76212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761760" y="4724280"/>
              <a:ext cx="304560" cy="144792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1676160" y="5562360"/>
              <a:ext cx="151920" cy="685800"/>
            </a:xfrm>
            <a:prstGeom prst="line">
              <a:avLst/>
            </a:prstGeom>
            <a:ln w="19080">
              <a:solidFill>
                <a:srgbClr val="e4e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1828440" y="4952520"/>
              <a:ext cx="152280" cy="685800"/>
            </a:xfrm>
            <a:prstGeom prst="line">
              <a:avLst/>
            </a:prstGeom>
            <a:ln w="19080">
              <a:solidFill>
                <a:srgbClr val="e4e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1904760" y="5028840"/>
              <a:ext cx="304560" cy="114300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2209680" y="2971440"/>
              <a:ext cx="456840" cy="205740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3657240" y="990360"/>
              <a:ext cx="685440" cy="28191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3124080" y="2666520"/>
              <a:ext cx="761400" cy="35053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3124080" y="3886200"/>
              <a:ext cx="456840" cy="220968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819160" y="5181480"/>
              <a:ext cx="228240" cy="990720"/>
            </a:xfrm>
            <a:prstGeom prst="line">
              <a:avLst/>
            </a:prstGeom>
            <a:ln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4190760" y="3504960"/>
              <a:ext cx="151920" cy="60948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419360" y="5562360"/>
              <a:ext cx="151920" cy="5331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4419000" y="4038120"/>
              <a:ext cx="533160" cy="213372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flipV="1">
              <a:off x="4952880" y="838080"/>
              <a:ext cx="1142640" cy="5029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4342680" y="5562360"/>
              <a:ext cx="152280" cy="68580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flipV="1">
              <a:off x="2742480" y="5257440"/>
              <a:ext cx="152280" cy="76212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flipV="1">
              <a:off x="1523880" y="5562360"/>
              <a:ext cx="75600" cy="533160"/>
            </a:xfrm>
            <a:prstGeom prst="line">
              <a:avLst/>
            </a:prstGeom>
            <a:ln w="1908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2438280" y="5486040"/>
              <a:ext cx="151920" cy="68580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2285280" y="4952880"/>
              <a:ext cx="152280" cy="60984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1142640" y="2590920"/>
              <a:ext cx="761760" cy="3581280"/>
            </a:xfrm>
            <a:prstGeom prst="line">
              <a:avLst/>
            </a:prstGeom>
            <a:ln w="19080">
              <a:solidFill>
                <a:srgbClr val="e4e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33520" y="6172200"/>
              <a:ext cx="55623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3520" y="685800"/>
              <a:ext cx="0" cy="5486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040" y="1066680"/>
              <a:ext cx="152280" cy="685800"/>
            </a:xfrm>
            <a:prstGeom prst="line">
              <a:avLst/>
            </a:prstGeom>
            <a:ln w="19080">
              <a:solidFill>
                <a:srgbClr val="00b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3520" y="6248520"/>
              <a:ext cx="2282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66680" y="6248520"/>
              <a:ext cx="4568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99840" y="6248520"/>
              <a:ext cx="759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81080" y="6248520"/>
              <a:ext cx="756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09680" y="6248520"/>
              <a:ext cx="756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90560" y="6248520"/>
              <a:ext cx="2282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81280" y="6248520"/>
              <a:ext cx="756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85840" y="6248520"/>
              <a:ext cx="3045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343040" y="6248520"/>
              <a:ext cx="759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1640" y="6248520"/>
              <a:ext cx="15238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95480" y="6248520"/>
              <a:ext cx="2282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5000" y="609120"/>
            <a:ext cx="3200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a Urchin Polymorphis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CM Genom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671480"/>
          <a:ext cx="8344080" cy="3992760"/>
        </p:xfrm>
        <a:graphic>
          <a:graphicData uri="http://schemas.openxmlformats.org/drawingml/2006/table">
            <a:tbl>
              <a:tblPr/>
              <a:tblGrid>
                <a:gridCol w="2286000"/>
                <a:gridCol w="838080"/>
                <a:gridCol w="914400"/>
                <a:gridCol w="838440"/>
                <a:gridCol w="838080"/>
                <a:gridCol w="762120"/>
                <a:gridCol w="914400"/>
                <a:gridCol w="9525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.nor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.mul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B.tau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.pur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D.ps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. mel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T.cas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olymorphism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rker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Insert Size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lone Distribution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ST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Finished Sequenc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overag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equence Bia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Genome Siz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urrent Genome Assembl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9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etrics for Quality of Assembli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inished sequence comparis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rder and Orientation of assembled contig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mpleteness of bp representatio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rrectness of bp representatio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parison to other data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mpleteness and correctness of representatio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RNA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ST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rker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quencing Cost is Everyth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etrics for inexpensive bases or read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st per Q20 bas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st per read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o measure of success of project being good quality assembl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equence only the AT rich parts of the genome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iss segmental duplications - interesting biolog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ecently evolving gene families that highlight species differenc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hallenges Due to Changes in Production to Increase Read Length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autions - addressed by adjusting insert siz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ore overlapping mate-pair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kew overlap statistic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blem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ewer reads total (project promised total bp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Virtual read length increase - no assembly improvement, since Phrap uses low quality bas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ssembl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ads are easy (commodity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ntig assembly is becoming easy (with exceptions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rder and Orientation requires paired end links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inning to chromosomes requires high density map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mparative Assembl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umanized genomes or Homogenized genom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ine for protein coding sequenc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ill miss regulatory sequenc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ill miss recent duplication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uture Genom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ess data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2x coverage on many genom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ew markers, ESTs, mRNA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ew BACs, Fosmid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ittle map informatio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ncertain quality assembli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re the sequences from the correct organism?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oes the assembly capture the bulk of the genes?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oes the assembly faithfully represent the genome?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re the contigs properly scaffolded to the genome?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fects on Anno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ncomplete Gene Prediction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loning bias region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ort contigs, many gap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himeric Gene Prediction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ncorrectly placed or joined contig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oblems for Gene familie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ost Segmental duplication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ost interesting biology (what makes organisms different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ost difficult for WGS only and low coverage methods to resolv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ess Characterized Genomes - Gene Predictio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e novo without evidenc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Tools developed for particular genome may not transfer well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Little expressed sequences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Protein sequence from other species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nsembl  must stick to mammals in the futur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quencing, Assembly, Finishing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mpact on Anno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Gaps that interrupt genes (poor prediction)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Gaps that  contain genes (missing data)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Duplications (extra gene copies)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ollapsed regions (missed gene duplications)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Order and orientation erro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hromosome location erro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uture Genomes will be Draf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quired Component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inishing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r quality assessmen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cus on syntenic breakpoint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cus on gene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solve duplicated region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ST sequencing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r quality assessmen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nnotation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apping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r long range scaffolding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334120" y="198108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nnota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terativ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ore difficult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Generic de novo tool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619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aul Havlak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James Durbi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ui Ch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my Ega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ephen Richard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Yue Liu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rica Sodergr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ingshan Li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enry So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Qin Xia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uayang Jia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7960" y="1619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leks Milosalvjevic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avid A. Wheeler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yan Lozado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hiran Pasternak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onna M. Muzn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haron Wei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hannon P. Duga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Yan D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hristian Buha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eorge M. Weinstock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ichard A. Gibb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pollo Developmen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Modifications at BCM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CM Data Modific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mport annotations from Ensembl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omo_sapiens_core_15_33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omo_sapiens_est_15_33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ntig based coordinat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dded MySQL database tables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o store feature sequence(cDNA, ESTs, etc...)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or UCSC data (coordinates and sequence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mport annotations from UCSC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Genome coordinat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imited data to chromosomes 3 and 12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pollo Modifications: Baylor Adaptor Fun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GUI allows users to select a chromosome and a range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Retrieves features in region from database  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Features are grouped based on the Apollo data objects (SeqFeatures and FeatureSets)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Features are added to a curation set.  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For new regions all Ensembl genepredictions are "promoted" to the blue annotation area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For previously curated regions a GAME Adaptor is instantiated within the Baylor adaptor to read the existing annotations from the GAMEXML file into a GenericAnnotationSet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Annotations are saved in a GAMEXML file.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pollo Modifications: Baylor Adaptor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pollo adaptor is a java package used to load feature data into Apollo from any database.  This adaptor is tied to Apollo version 1.3.5.  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odified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pollo.dataadapter.organism.OrganismAdapter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move the binding of gene definition to name adaptors. 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ew name adapter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du.bcm.hgsc.apollo.dataadapter.organism.HumanNameAdapter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o control behavior of the "Show Gene Report" menu item.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aylor Adaptor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ot upgraded to version 1.4.2 because it appears that some packages have been reorganized (or organized)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nsists of 95 java classes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50 junit test class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de duplication is minimal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ployed using An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sign patterns, Refactoring, and Test Driven Development were use in creating the adaptor.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ceedures  to Annotate Huma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fined regions to avoid overlap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ssigned region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maller regions or trimmed data for some region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panning genes annotated in one region onl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 rare cases spanning genes annotated in separate overlap regions with unique annotation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notation Repor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Genbank feature tables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Accounts of genes and transcripts 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by assigned region 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By annotator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Gene counts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known 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previously unknown genes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Sequence variation between genomic sequence and cDNA evidence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verview of Sequence Method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hole Genome Shotgun (WGS) onl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ast, inexpensiv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Good scaffolds with different insert siz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an collapse recent duplications and repeat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AC skim  + WG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ore expensive (more shotgun libraries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etter resolution of duplications (local assembly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AC pools - potentially more efficient skim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mparative Assembl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nexpensive shortcut when resources unavailabl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an create artifacts in the assembly - no mousified rat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3260" r="0" b="0"/>
          <a:stretch/>
        </p:blipFill>
        <p:spPr>
          <a:xfrm>
            <a:off x="514440" y="304920"/>
            <a:ext cx="8020080" cy="620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Arial"/>
              </a:rPr>
              <a:t>Annotation Accounting</a:t>
            </a:r>
            <a:endParaRPr b="0" lang="en-US" sz="3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1085" t="18971" r="0" b="3511"/>
          <a:stretch/>
        </p:blipFill>
        <p:spPr>
          <a:xfrm>
            <a:off x="914400" y="1143000"/>
            <a:ext cx="739152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poll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onderful for manual cura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ork is needed to make it a more portable tool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atabase for curated annotation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ownload for local operatio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eek a standardized GAMEXML schema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ital for ease of use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or communication of all users and developer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crease time required to "plug into apollo" from any data source.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eal Genom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aploid or Inbred organism (less polymorphism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ood Map (better higher order scaffolding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GS (several insert sizes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AC skims (local assembly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ell behaved distribution of clone representa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ST/mRNA data for QC, Assembly and Annota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inished sequences for QC, QA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nough coverage (7x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al Genomes are not Idea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28600" y="1219320"/>
          <a:ext cx="8686800" cy="5062320"/>
        </p:xfrm>
        <a:graphic>
          <a:graphicData uri="http://schemas.openxmlformats.org/drawingml/2006/table">
            <a:tbl>
              <a:tblPr/>
              <a:tblGrid>
                <a:gridCol w="2133720"/>
                <a:gridCol w="1676160"/>
                <a:gridCol w="2667240"/>
                <a:gridCol w="2209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K</a:t>
                      </a: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ad</a:t>
                      </a: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olymorphism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Haploid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Inbred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Outbred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rker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Dens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pars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Insert Size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kb, 10kb, 50kb, 200kb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kb, 50kb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kb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lone Distribution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andom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andom in some  Size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Biased in all case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BAC end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ny, paired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ome, paired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ne or not paired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ST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ny 300/Mb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ome 100/Mb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RNA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ny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om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2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Finished Sequenc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ny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om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overag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0x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x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x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equence Bia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ome/one strand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ny/both strand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Genome Siz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0Mb - 100Mb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00Mb - 1Gb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&gt;1Gb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enome Characteristics and Resources Available Change the Methods and Outcom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9800" y="1981080"/>
            <a:ext cx="82044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CM Genom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71480"/>
          <a:ext cx="8344080" cy="3992760"/>
        </p:xfrm>
        <a:graphic>
          <a:graphicData uri="http://schemas.openxmlformats.org/drawingml/2006/table">
            <a:tbl>
              <a:tblPr/>
              <a:tblGrid>
                <a:gridCol w="2286000"/>
                <a:gridCol w="838080"/>
                <a:gridCol w="914400"/>
                <a:gridCol w="838440"/>
                <a:gridCol w="838080"/>
                <a:gridCol w="762120"/>
                <a:gridCol w="914400"/>
                <a:gridCol w="9525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.nor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.mul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B.tau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.pur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D.ps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. mel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T.cas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olymorphism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rker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Insert Size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lone Distribution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ST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Finished Sequenc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overag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equence Bia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Genome Siz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urrent Experi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w - Bos tauru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bred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ood BAC resourc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ap resourc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QTL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arge genom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38120" y="198108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hesus - Macaca mulatt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arge genom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oor resourc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arker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ST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mparative assembl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Use Human genome sequenc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Use Human marker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AC resources to improve assembl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oneybee - Apis mellifera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T rich regions missing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ooking at orthologous insect genes some were poorly represented, and those were more AT rich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radient centrifugation to separate on base composition and select AT rich frac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ias in BAC representatio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ternal deletions that corrupt the assembly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4:14:48Z</dcterms:created>
  <dc:creator>Kim C. Worley</dc:creator>
  <dc:description/>
  <dc:language>en-US</dc:language>
  <cp:lastModifiedBy>Kim C. Worley</cp:lastModifiedBy>
  <cp:lastPrinted>2004-04-19T18:03:29Z</cp:lastPrinted>
  <dcterms:modified xsi:type="dcterms:W3CDTF">2004-04-26T20:00:23Z</dcterms:modified>
  <cp:revision>873</cp:revision>
  <dc:subject/>
  <dc:title>PowerPoint Presentation  -  Entrez</dc:title>
</cp:coreProperties>
</file>